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11.jpeg" ContentType="image/jpeg"/>
  <Override PartName="/ppt/media/image6.pct" ContentType="image/x-pict"/>
  <Override PartName="/ppt/media/image7.pct" ContentType="image/x-pict"/>
  <Override PartName="/ppt/media/image8.pct" ContentType="image/x-pict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A03-6486-4EB7-8DA3-62AA1E54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D1A-1C30-445B-BA75-E74F5561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B8F-D44D-4232-9D4E-E5F7A1AD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DDD-0EFF-4465-92A9-A721225E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ABA9-ED91-437F-97EF-FD0AE83E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2C0D-51BA-4938-8901-10AFED4A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6104-E532-4B81-9003-F8510657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CA78-C364-46E0-9D7A-A04CCD85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A808-BAAE-443B-A740-A2AC09CC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A3A6-CC2A-44B5-9998-776BB48A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71BA-8E66-48FA-82C4-DD324E22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E3FC-9774-4990-89DD-1D57FD59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05AD-E0D5-4079-B50C-27F4B0EC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8749-1E92-4B24-802C-CC471D6F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E318-11C4-45A7-BBBB-53A715B6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B8FF-2BBF-467F-9A40-3C09C442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8135-25D2-4007-8BCB-25CFCC9B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632-786D-4AC6-A9C0-625FB32C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EE5-A5FE-46A8-B829-31B063C9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E86-4383-4B7A-8FD1-491D3C16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2E7-02DA-49A8-8E57-29A3BE04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AC7E-8CE6-4835-A953-D57ED6A4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642-744C-4499-977B-681F7CD2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179-8E29-4785-BDDA-809237F5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6F6E-8820-4AE7-9D58-BCEF82F7CD3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054F-8CEE-4D85-B664-93FECDDFE71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14040" y="4114440"/>
            <a:ext cx="6553080" cy="1981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4068ac"/>
                </a:solidFill>
                <a:uFillTx/>
                <a:latin typeface="Abadi MT Condensed Extra Bold"/>
              </a:rPr>
              <a:t>By</a:t>
            </a:r>
            <a:r>
              <a:rPr b="1" i="1" lang="en-US" sz="3200" spc="-1" strike="noStrike" u="sng">
                <a:solidFill>
                  <a:srgbClr val="0200ff"/>
                </a:solidFill>
                <a:uFillTx/>
                <a:latin typeface="Abadi MT Condensed Extra Bold"/>
              </a:rPr>
              <a:t>: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badi MT Condensed Extra Bold"/>
                <a:ea typeface="华文楷体"/>
              </a:rPr>
              <a:t>Isaiah Col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80"/>
                </a:solidFill>
                <a:uFillTx/>
                <a:latin typeface="Abadi MT Condensed Extra Bold"/>
                <a:ea typeface="华文楷体"/>
              </a:rPr>
              <a:t>Isabel Mire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00ff"/>
                </a:solidFill>
                <a:uFillTx/>
                <a:latin typeface="Arial"/>
              </a:rPr>
              <a:t>Harsh Patel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0592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662280" y="3733920"/>
            <a:ext cx="142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networkguid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f9e1"/>
                </a:solidFill>
                <a:uFillTx/>
                <a:latin typeface="Arial"/>
              </a:rPr>
              <a:t>What is A Hurric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922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4920" indent="-30636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93d3"/>
                </a:solidFill>
                <a:uFillTx/>
                <a:latin typeface="Abadi MT Condensed Extra Bold"/>
                <a:ea typeface="#헤드라인A"/>
              </a:rPr>
              <a:t>Warm and moist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4920" indent="-30636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39"/>
                </a:solidFill>
                <a:uFillTx/>
                <a:latin typeface="Abadi MT Condensed Extra Bold"/>
                <a:ea typeface="#헤드라인A"/>
              </a:rPr>
              <a:t>Strong winds rotating counterclockw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4920" indent="-30636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badi MT Condensed Extra Bold"/>
                <a:ea typeface="#헤드라인A"/>
              </a:rPr>
              <a:t>A huge 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4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3520" y="1904400"/>
            <a:ext cx="4287600" cy="3979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43000" y="59436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urfersvillag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4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639040" cy="4516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381880" cy="1524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9810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images.paraorkut.com/img/clipart/images/g/green_star-847.gi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240" y="640404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0000-000-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38360" y="6365880"/>
            <a:ext cx="13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HBN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057400"/>
            <a:ext cx="3047760" cy="459720"/>
          </a:xfrm>
          <a:prstGeom prst="rect">
            <a:avLst/>
          </a:prstGeom>
          <a:solidFill>
            <a:srgbClr val="2ce9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800-440-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9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a hurricane</a:t>
            </a:r>
            <a:r>
              <a:rPr b="0" lang="en-US" sz="4000" spc="-1" strike="noStrike">
                <a:solidFill>
                  <a:srgbClr val="ff000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d00ff"/>
                </a:solidFill>
                <a:latin typeface="Arial"/>
              </a:rPr>
              <a:t>ne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00600" y="1905120"/>
            <a:ext cx="3695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0ff"/>
                </a:solidFill>
                <a:latin typeface="Abadi MT Condensed Extra Bold"/>
              </a:rPr>
              <a:t>A hurricane needs 80 degree w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Extra Bold"/>
              </a:rPr>
              <a:t>Fierce wi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badi MT Condensed Extra Bold"/>
              </a:rPr>
              <a:t>Spiraling winds at 200 miles a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876920" cy="40384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607760" y="6248520"/>
            <a:ext cx="188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globalneighbourhood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1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3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4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ff"/>
                </a:solidFill>
                <a:uFillTx/>
                <a:latin typeface="American Typewriter"/>
              </a:rPr>
              <a:t>	</a:t>
            </a: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merican Typewriter"/>
              </a:rPr>
              <a:t>Safety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merican Typewriter"/>
              </a:rPr>
              <a:t>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92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5600" indent="-33804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Britannic Bold"/>
              </a:rPr>
              <a:t>Should have first aid kit, food, water, battery, &amp; radio</a:t>
            </a:r>
            <a:r>
              <a:rPr b="0" lang="en-US" sz="2400" spc="-1" strike="noStrike">
                <a:solidFill>
                  <a:srgbClr val="00ff00"/>
                </a:solidFill>
                <a:latin typeface="Britannic Bold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Britannic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ritannic Bold"/>
              </a:rPr>
              <a:t>Keep cash &amp; clothes han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Britannic Bold"/>
              </a:rPr>
              <a:t>make sure car is filled with gasoline</a:t>
            </a:r>
            <a:r>
              <a:rPr b="0" lang="en-US" sz="2000" spc="-1" strike="noStrike">
                <a:solidFill>
                  <a:srgbClr val="008000"/>
                </a:solidFill>
                <a:latin typeface="Britannic Bold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Britannic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451"/>
              </a:spcBef>
              <a:buClr>
                <a:srgbClr val="4068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Britannic Bold"/>
              </a:rPr>
              <a:t>Stay on higher grounds if flo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itannic Bold"/>
              </a:rPr>
              <a:t>Evacuate area , move to lower g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35520" y="3497400"/>
            <a:ext cx="19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343400" cy="3609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38680" y="5638680"/>
            <a:ext cx="328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wunderground.com/blog/Patrap/archive.ht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360" y="5867280"/>
            <a:ext cx="21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42explore.com/hurricane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48280" y="1522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for Sunburst Bold"/>
              </a:rPr>
              <a:t>Weather 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056360" cy="5105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69560" y="5867280"/>
            <a:ext cx="119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ewscatcher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	</a:t>
            </a: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E</a:t>
            </a:r>
            <a:r>
              <a:rPr b="1" i="1" lang="en-US" sz="4400" spc="-1" strike="noStrike" u="sng">
                <a:solidFill>
                  <a:srgbClr val="ff6600"/>
                </a:solidFill>
                <a:uFillTx/>
                <a:latin typeface="Arial for Sunburst Bold"/>
              </a:rPr>
              <a:t>f</a:t>
            </a:r>
            <a:r>
              <a:rPr b="1" i="1" lang="en-US" sz="4400" spc="-1" strike="noStrike" u="sng">
                <a:solidFill>
                  <a:srgbClr val="0093ff"/>
                </a:solidFill>
                <a:uFillTx/>
                <a:latin typeface="Arial for Sunburst Bold"/>
              </a:rPr>
              <a:t>f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e</a:t>
            </a:r>
            <a:r>
              <a:rPr b="1" i="1" lang="en-US" sz="4400" spc="-1" strike="noStrike" u="sng">
                <a:solidFill>
                  <a:srgbClr val="8900ff"/>
                </a:solidFill>
                <a:uFillTx/>
                <a:latin typeface="Arial for Sunburst Bold"/>
              </a:rPr>
              <a:t>c</a:t>
            </a: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t</a:t>
            </a:r>
            <a:r>
              <a:rPr b="1" i="1" lang="en-US" sz="4400" spc="-1" strike="noStrike" u="sng">
                <a:solidFill>
                  <a:srgbClr val="ff6c00"/>
                </a:solidFill>
                <a:uFillTx/>
                <a:latin typeface="Arial for Sunburst Bold"/>
              </a:rPr>
              <a:t>s</a:t>
            </a:r>
            <a:r>
              <a:rPr b="1" i="1" lang="en-US" sz="4400" spc="-1" strike="noStrike" u="sng">
                <a:solidFill>
                  <a:srgbClr val="ff000c"/>
                </a:solidFill>
                <a:uFillTx/>
                <a:latin typeface="Arial for Sunburst Bold"/>
              </a:rPr>
              <a:t> </a:t>
            </a:r>
            <a:r>
              <a:rPr b="1" i="1" lang="en-US" sz="4400" spc="-1" strike="noStrike" u="sng">
                <a:solidFill>
                  <a:srgbClr val="0093ff"/>
                </a:solidFill>
                <a:uFillTx/>
                <a:latin typeface="Arial for Sunburst Bold"/>
              </a:rPr>
              <a:t>o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f</a:t>
            </a:r>
            <a:r>
              <a:rPr b="1" i="1" lang="en-US" sz="4400" spc="-1" strike="noStrike" u="sng">
                <a:solidFill>
                  <a:srgbClr val="ff000c"/>
                </a:solidFill>
                <a:uFillTx/>
                <a:latin typeface="Arial for Sunburst Bold"/>
              </a:rPr>
              <a:t> </a:t>
            </a:r>
            <a:r>
              <a:rPr b="1" i="1" lang="en-US" sz="4400" spc="-1" strike="noStrike" u="sng">
                <a:solidFill>
                  <a:srgbClr val="8900ff"/>
                </a:solidFill>
                <a:uFillTx/>
                <a:latin typeface="Arial for Sunburst Bold"/>
              </a:rPr>
              <a:t>a</a:t>
            </a:r>
            <a:r>
              <a:rPr b="1" i="1" lang="en-US" sz="4400" spc="-1" strike="noStrike" u="sng">
                <a:solidFill>
                  <a:srgbClr val="ff000c"/>
                </a:solidFill>
                <a:uFillTx/>
                <a:latin typeface="Arial for Sunburst Bold"/>
              </a:rPr>
              <a:t> </a:t>
            </a: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H</a:t>
            </a:r>
            <a:r>
              <a:rPr b="1" i="1" lang="en-US" sz="4400" spc="-1" strike="noStrike" u="sng">
                <a:solidFill>
                  <a:srgbClr val="ff6c00"/>
                </a:solidFill>
                <a:uFillTx/>
                <a:latin typeface="Arial for Sunburst Bold"/>
              </a:rPr>
              <a:t>u</a:t>
            </a:r>
            <a:r>
              <a:rPr b="1" i="1" lang="en-US" sz="4400" spc="-1" strike="noStrike" u="sng">
                <a:solidFill>
                  <a:srgbClr val="0093ff"/>
                </a:solidFill>
                <a:uFillTx/>
                <a:latin typeface="Arial for Sunburst Bold"/>
              </a:rPr>
              <a:t>r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r</a:t>
            </a:r>
            <a:r>
              <a:rPr b="1" i="1" lang="en-US" sz="4400" spc="-1" strike="noStrike" u="sng">
                <a:solidFill>
                  <a:srgbClr val="8900ff"/>
                </a:solidFill>
                <a:uFillTx/>
                <a:latin typeface="Arial for Sunburst Bold"/>
              </a:rPr>
              <a:t>i</a:t>
            </a: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c</a:t>
            </a:r>
            <a:r>
              <a:rPr b="1" i="1" lang="en-US" sz="4400" spc="-1" strike="noStrike" u="sng">
                <a:solidFill>
                  <a:srgbClr val="ff6c00"/>
                </a:solidFill>
                <a:uFillTx/>
                <a:latin typeface="Arial for Sunburst Bold"/>
              </a:rPr>
              <a:t>a</a:t>
            </a:r>
            <a:r>
              <a:rPr b="1" i="1" lang="en-US" sz="4400" spc="-1" strike="noStrike" u="sng">
                <a:solidFill>
                  <a:srgbClr val="0093ff"/>
                </a:solidFill>
                <a:uFillTx/>
                <a:latin typeface="Arial for Sunburst Bold"/>
              </a:rPr>
              <a:t>n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164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4"/>
                </a:solidFill>
                <a:latin typeface="Arial for Sunburst Bold"/>
              </a:rPr>
              <a:t>Can Dam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09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6c00"/>
                </a:solidFill>
                <a:uFillTx/>
                <a:latin typeface="Arial for Sunburst Bold"/>
              </a:rPr>
              <a:t>Trees, houses, buildings, and veh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0093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93ff"/>
                </a:solidFill>
                <a:uFillTx/>
                <a:latin typeface="Arial for Sunburst Bold"/>
              </a:rPr>
              <a:t>Injur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9ff00"/>
                </a:solidFill>
                <a:uFillTx/>
                <a:latin typeface="Arial for Sunburst Bold"/>
              </a:rPr>
              <a:t>Cause Floo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ff008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900ff"/>
                </a:solidFill>
                <a:uFillTx/>
                <a:latin typeface="Arial for Sunburst Bold"/>
              </a:rPr>
              <a:t>May cause Oil spi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71680" y="2490840"/>
            <a:ext cx="3924000" cy="2789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51040" y="5334120"/>
            <a:ext cx="93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ailymail.co.uk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07200" y="586728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weatherwizkids.com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2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7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2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57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2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ff00"/>
                </a:solidFill>
                <a:latin typeface="Copperplate Gothic Light"/>
              </a:rPr>
              <a:t>Maps </a:t>
            </a:r>
            <a:r>
              <a:rPr b="0" lang="en-US" sz="4400" spc="-1" strike="noStrike">
                <a:solidFill>
                  <a:srgbClr val="0000ff"/>
                </a:solidFill>
                <a:latin typeface="Copperplate Gothic Light"/>
              </a:rPr>
              <a:t>and</a:t>
            </a:r>
            <a:r>
              <a:rPr b="0" lang="en-US" sz="4400" spc="-1" strike="noStrike">
                <a:solidFill>
                  <a:srgbClr val="ff0000"/>
                </a:solidFill>
                <a:latin typeface="Copperplate Gothic Light"/>
              </a:rPr>
              <a:t> d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649680" y="2057040"/>
            <a:ext cx="549432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71600" indent="1713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38aff"/>
                </a:solidFill>
                <a:uFillTx/>
                <a:latin typeface="Arial for Sunburst Bold"/>
              </a:rPr>
              <a:t>Happened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 for Sunburst Bold"/>
              </a:rPr>
              <a:t>9:00</a:t>
            </a:r>
            <a:r>
              <a:rPr b="0" lang="en-US" sz="2000" spc="-1" strike="noStrike" u="sng">
                <a:solidFill>
                  <a:srgbClr val="238aff"/>
                </a:solidFill>
                <a:uFillTx/>
                <a:latin typeface="Arial for Sunburst Bold"/>
              </a:rPr>
              <a:t>am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for Sunburst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6600"/>
                </a:solidFill>
                <a:uFillTx/>
                <a:latin typeface="Arial for Sunburst Bold"/>
              </a:rPr>
              <a:t>June 30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for Sunburst Bold"/>
              </a:rPr>
              <a:t>most </a:t>
            </a:r>
            <a:r>
              <a:rPr b="0" lang="en-US" sz="2000" spc="-1" strike="noStrike" u="sng">
                <a:solidFill>
                  <a:srgbClr val="e6ff77"/>
                </a:solidFill>
                <a:uFillTx/>
                <a:latin typeface="Arial for Sunburst Bold"/>
              </a:rPr>
              <a:t>destructiv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for Sunburst Bold"/>
              </a:rPr>
              <a:t> in </a:t>
            </a:r>
            <a:r>
              <a:rPr b="0" lang="en-US" sz="2000" spc="-1" strike="noStrike" u="sng">
                <a:solidFill>
                  <a:srgbClr val="4068ac"/>
                </a:solidFill>
                <a:uFillTx/>
                <a:latin typeface="Arial for Sunburst Bold"/>
              </a:rPr>
              <a:t>Florida</a:t>
            </a:r>
            <a:r>
              <a:rPr b="0" lang="en-US" sz="2000" spc="-1" strike="noStrike" u="sng">
                <a:solidFill>
                  <a:srgbClr val="4068ac"/>
                </a:solidFill>
                <a:uFillTx/>
                <a:latin typeface="Arial for Sunburst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 for Sunburst Bold"/>
              </a:rPr>
              <a:t>Lasted for 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Arial for Sunburst Bold"/>
              </a:rPr>
              <a:t>about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Arial for Sunburst Bold"/>
              </a:rPr>
              <a:t> a </a:t>
            </a:r>
            <a:r>
              <a:rPr b="0" lang="en-US" sz="2000" spc="-1" strike="noStrike" u="sng">
                <a:solidFill>
                  <a:srgbClr val="996633"/>
                </a:solidFill>
                <a:uFillTx/>
                <a:latin typeface="Arial for Sunburst Bold"/>
              </a:rPr>
              <a:t>we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3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35040" indent="-533520">
              <a:lnSpc>
                <a:spcPct val="100000"/>
              </a:lnSpc>
              <a:spcBef>
                <a:spcPts val="601"/>
              </a:spcBef>
              <a:buClr>
                <a:srgbClr val="ff0084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93ff"/>
                </a:solidFill>
                <a:uFillTx/>
                <a:latin typeface="Arial for Sunburst Bold"/>
              </a:rPr>
              <a:t>Can cause lots of damage and fl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3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572000" cy="3644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10320" y="5616720"/>
            <a:ext cx="250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aaymca.com/search/hurric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3960" y="6062760"/>
            <a:ext cx="323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weatherwizkids.com/weather-hurricane.ht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i="1" lang="en-US" sz="4400" spc="-1" strike="noStrike" u="sng">
                <a:solidFill>
                  <a:srgbClr val="ff0084"/>
                </a:solidFill>
                <a:uFillTx/>
                <a:latin typeface="Arial for Sunburst Bold"/>
              </a:rPr>
              <a:t>F</a:t>
            </a:r>
            <a:r>
              <a:rPr b="1" i="1" lang="en-US" sz="4400" spc="-1" strike="noStrike" u="sng">
                <a:solidFill>
                  <a:srgbClr val="ff6600"/>
                </a:solidFill>
                <a:uFillTx/>
                <a:latin typeface="Arial for Sunburst Bold"/>
              </a:rPr>
              <a:t>a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s</a:t>
            </a:r>
            <a:r>
              <a:rPr b="1" i="1" lang="en-US" sz="4400" spc="-1" strike="noStrike" u="sng">
                <a:solidFill>
                  <a:srgbClr val="e6ff00"/>
                </a:solidFill>
                <a:uFillTx/>
                <a:latin typeface="Arial for Sunburst Bold"/>
              </a:rPr>
              <a:t>t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 for Sunburst Bold"/>
              </a:rPr>
              <a:t> </a:t>
            </a:r>
            <a:r>
              <a:rPr b="1" i="1" lang="en-US" sz="4400" spc="-1" strike="noStrike" u="sng">
                <a:solidFill>
                  <a:srgbClr val="0093ff"/>
                </a:solidFill>
                <a:uFillTx/>
                <a:latin typeface="Arial for Sunburst Bold"/>
              </a:rPr>
              <a:t>F</a:t>
            </a:r>
            <a:r>
              <a:rPr b="1" i="1" lang="en-US" sz="4400" spc="-1" strike="noStrike" u="sng">
                <a:solidFill>
                  <a:srgbClr val="8900ff"/>
                </a:solidFill>
                <a:uFillTx/>
                <a:latin typeface="Arial for Sunburst Bold"/>
              </a:rPr>
              <a:t>a</a:t>
            </a:r>
            <a:r>
              <a:rPr b="1" i="1" lang="en-US" sz="4400" spc="-1" strike="noStrike" u="sng">
                <a:solidFill>
                  <a:srgbClr val="ff00ac"/>
                </a:solidFill>
                <a:uFillTx/>
                <a:latin typeface="Arial for Sunburst Bold"/>
              </a:rPr>
              <a:t>c</a:t>
            </a:r>
            <a:r>
              <a:rPr b="1" i="1" lang="en-US" sz="4400" spc="-1" strike="noStrike" u="sng">
                <a:solidFill>
                  <a:srgbClr val="ff6600"/>
                </a:solidFill>
                <a:uFillTx/>
                <a:latin typeface="Arial for Sunburst Bold"/>
              </a:rPr>
              <a:t>t</a:t>
            </a:r>
            <a:r>
              <a:rPr b="1" i="1" lang="en-US" sz="4400" spc="-1" strike="noStrike" u="sng">
                <a:solidFill>
                  <a:srgbClr val="09ff00"/>
                </a:solidFill>
                <a:uFillTx/>
                <a:latin typeface="Arial for Sunburst Bold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0093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ac"/>
                </a:solidFill>
                <a:uFillTx/>
                <a:latin typeface="Arial for Sunburst Bold"/>
              </a:rPr>
              <a:t>The eye wall is the most distruct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09ff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Arial for Sunburst Bold"/>
              </a:rPr>
              <a:t>Can last over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9ff00"/>
                </a:solidFill>
                <a:uFillTx/>
                <a:latin typeface="Arial for Sunburst Bold"/>
              </a:rPr>
              <a:t>Can go 600 miles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 for Sunburst Bold"/>
              </a:rPr>
              <a:t> </a:t>
            </a:r>
            <a:r>
              <a:rPr b="1" i="1" lang="en-US" sz="2400" spc="-1" strike="noStrike" u="sng">
                <a:solidFill>
                  <a:srgbClr val="09ff00"/>
                </a:solidFill>
                <a:uFillTx/>
                <a:latin typeface="Arial for Sunburst Bold"/>
              </a:rPr>
              <a:t>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71680" y="2590920"/>
            <a:ext cx="3924000" cy="25905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85440" y="5423040"/>
            <a:ext cx="64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nasa.gov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12120" y="579132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www.weatherwizkids.com/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0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1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2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2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5:16:48Z</dcterms:created>
  <dc:creator>D83  User</dc:creator>
  <dc:description/>
  <dc:language>en-US</dc:language>
  <cp:lastModifiedBy>D83  User</cp:lastModifiedBy>
  <dcterms:modified xsi:type="dcterms:W3CDTF">2011-03-21T18:41:54Z</dcterms:modified>
  <cp:revision>30</cp:revision>
  <dc:subject/>
  <dc:title>PowerPoint Presentation</dc:title>
</cp:coreProperties>
</file>